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0BC7-84D8-4597-BF96-FC4952B6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06B-9CA6-4EC3-A429-4DEF3DE5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F5C-8841-4087-A89E-B91F18E3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F36-1708-46DE-BDD8-537F7FC9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493-2632-4C15-9A2A-7A169D30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482-0FE3-4CDE-80AF-C8BFC6C3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C39-41BB-4CA4-9B1D-9B3B723A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683-A144-4215-A14C-9DB6AEE0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F46-2101-4D10-B88B-129B489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04CE-F47F-4582-8693-903C68FB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FF6-2EBC-4371-A46C-EADF9C8B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B93-6226-4E57-98D7-146E2DCA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6FE-6234-49C4-9742-615EC5C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A58-7704-46A3-A10B-E2667C3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315-217E-4CEA-8806-3CD83E1DF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ccess to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irectly related to the number of people i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5 According to the gravity model, the optimal location for a busines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dependent of distance from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ly related to the number of peopl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ext to businesses offering simila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djacent to large government fac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ex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6 Central place theory uses a nesting ser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iang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qu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en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exag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Octag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7 The city-state model is best exemplified by an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g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8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world-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s Ang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ok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2_14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9 CBD retail services are least likely to have the following characterist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rimarily rur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gh thres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gh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vices for office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 are typical characteristic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D retai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malls near subur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10 In the United States, services are predominately moving to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scenic rural areas far from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 the Central Business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spersed evenly throughout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n malls near subur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ith the lowest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1 In which region do services contribut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to the econo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2_01"/>
          <p:cNvPicPr/>
          <p:nvPr/>
        </p:nvPicPr>
        <p:blipFill>
          <a:blip r:embed="rId1"/>
          <a:stretch/>
        </p:blipFill>
        <p:spPr>
          <a:xfrm>
            <a:off x="685800" y="520560"/>
            <a:ext cx="79246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2 In contrast to the United States, most people in the world liv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mal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luster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ed 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oderate-sized t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rease agricultural e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3 The enclosure movement in Great Britain was carried out primaril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dvance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Increase agricultural 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Quell labor un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quash the revolutionary spirit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sa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courage rural citizens to move to cluste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ral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4 A central place is designed to maxim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eligiou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ccess to raw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ccess to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1:55:33Z</dcterms:modified>
  <cp:revision>82</cp:revision>
  <dc:subject/>
  <dc:title>CRS Chapter 4</dc:title>
</cp:coreProperties>
</file>